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1FCE-2EB3-4825-944B-7BCA79F04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6EA1-5218-41CD-B1E1-EEEBE5E43E3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3F38-BDD8-4471-844F-14762301CB5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DDAF-8DFE-403A-8E7B-02059FA9FE5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796D-C78E-4D08-B705-87E71CB541A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FAD5-309B-49A4-ADA4-C7FA964444B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3B8F-42F0-4E2B-B889-B4D6884E153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0D96-2B9C-4B3B-8793-A59EEA05D79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1B62-F70B-435E-BBD7-BE6EF7954B8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012F-0DB6-4624-BDB3-91F3E40E9F0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C7E1-872A-4625-B05D-25AFD37C8FE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DA07-5478-4CD3-96DB-AD172BA4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2E08-B45B-4B29-AB3B-1B072C06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7A36-D05E-4213-A2E6-C41A615D2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A567-1332-4642-82EE-6A294CDB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4F80-EC66-4CFD-B41B-A5B7E557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EFA5-D0B4-443D-8D93-C63DEB1A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1D18-60DB-4AC7-8658-35B3013F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ECEC-EB61-4975-AD1C-DB380DE5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CA33-B7B4-4A18-9BA8-8BC77468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C004-ACFC-45E6-85CE-BF9989B4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9812-AD3E-4BA6-9914-7441B6F0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E04D-CE91-46C6-B50C-3FD42843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DB76-FF7B-4254-ADF7-02632704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AF05-07C5-46D8-A2F0-5B00BB23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3DE6-63D3-4F21-85F4-A6A1A0FE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733B-8982-481B-B3C5-DF12285E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D4D9-C00E-42C4-B009-1B72E112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3E0C-3FA6-4BD3-B585-A8A1622E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1671-5FB5-4C60-B081-115F0B7A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0852-B315-4041-8698-D9D381F1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3374-6E3C-433A-8AE0-91FF09A4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64CF-4B4F-44D4-98DA-E029A630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71FE-0E9A-47AE-A3B6-6E40491D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4A88-278B-4574-97FD-8EDA0474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2AF6-647F-426A-B2E9-ECFBC4E4580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A0AE-3AA9-4CC6-BB0B-575E2DB302E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497800" cy="2054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apted from Dr. Cindi Harri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79200" y="109440"/>
            <a:ext cx="3969000" cy="1090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3733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f your job is confining, labor intensive, repetitive, unappreciated, and life draining, you should click on the Jobs In Town Website to find a new place of employment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3886200" y="304920"/>
            <a:ext cx="44197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English word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argument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s derived from the Latin verb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arguer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“to make clear.”  Argument is the process for making what we think clear to ourselves and other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—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rusious and Channell- </a:t>
            </a: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The Aims of Argument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gument= claim an author make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aim= what an author wants you to believ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gument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re supported by eviden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ake place in contex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ave aims to persuad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genr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f the text/articl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subject/topic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o is/are th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writer/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context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o is th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audienc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purpose/ai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343400" cy="6477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4038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3962520" cy="6132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343400" y="304920"/>
            <a:ext cx="44197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79200" y="-128520"/>
            <a:ext cx="3986280" cy="15192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4114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genre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of the text/article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subject/topic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o is/are the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writer/s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context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o is the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audience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purpose/aim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572000" y="762120"/>
            <a:ext cx="3886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1" descr=""/>
          <p:cNvPicPr/>
          <p:nvPr/>
        </p:nvPicPr>
        <p:blipFill>
          <a:blip r:embed="rId1"/>
          <a:stretch/>
        </p:blipFill>
        <p:spPr>
          <a:xfrm>
            <a:off x="0" y="146160"/>
            <a:ext cx="4054320" cy="939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are the arguments made by this tex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is the main argumen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evidence from the text supports this as the main argumen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3809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Title 1" descr=""/>
          <p:cNvPicPr/>
          <p:nvPr/>
        </p:nvPicPr>
        <p:blipFill>
          <a:blip r:embed="rId1"/>
          <a:stretch/>
        </p:blipFill>
        <p:spPr>
          <a:xfrm>
            <a:off x="-152280" y="-158760"/>
            <a:ext cx="4163760" cy="1092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3962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f your job can be done by a machine, it may not be the job for you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f nobody notices you doing your job, it might not be the right job for you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s an advertisement for a job search company, it suggests that you use their service to find a new job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4343400" y="304920"/>
            <a:ext cx="4191120" cy="61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3:26:36Z</dcterms:created>
  <dc:creator>nvasquez</dc:creator>
  <dc:description/>
  <dc:language>en-US</dc:language>
  <cp:lastModifiedBy>Nvasquez</cp:lastModifiedBy>
  <dcterms:modified xsi:type="dcterms:W3CDTF">2010-09-27T17:17:38Z</dcterms:modified>
  <cp:revision>8</cp:revision>
  <dc:subject/>
  <dc:title>Audience, Purpose, &amp; Genre</dc:title>
</cp:coreProperties>
</file>